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6D6B-74BA-4EF0-8120-F143D332F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CC44-57CE-44EC-9932-EED1D6CD0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site/evo101/VSpeciation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1716-A996-4074-B484-34CAC603F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ural - different courtship behavi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l - breed at different times of the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 - live in different 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- structures not compat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- male gametes recognize female gametes of same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A617-BD44-4F5E-AC0F-513F896F1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 doe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develop properly - species of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brid if born, doe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survive to 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brid survives but is sterile (e.g., horse x donkey = m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7DE2-F5BE-467F-BE40-D76E60BC5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site/evo101/VC1bAllopatric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D9B4-A5FB-41C9-ADDC-F44C7DDAB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site/evo101/VC1bAllopatric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e maggot flies;  fed on hawthorne, but apple introduced 200 years ago; 2 separate populations, have started to diverge gene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153-D23A-41B7-A478-25A32633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E18-C0C3-468D-97DD-56711F91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20F-08AB-4ED2-8FAF-0E2D878E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1AC4-1FA6-4AD8-BEBE-76E5455D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7A87-525F-451A-A35D-FB365822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E8E6-4455-4C36-ABAA-373910CE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6E6-6336-4E1D-90B1-B8AE5B2A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DA5-193C-4297-96E1-2570B1BD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C78E-5A75-4AF6-85B1-0BCEAB5F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B414-9558-4869-95EC-941A3EBA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35D-6E2E-4B08-9832-855CBA3C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79C2-9782-4960-8701-00A41068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EDE9-799E-4DA9-938A-C7E5410E8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peci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spec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mbers of a population that can interbreed under natural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pecies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produc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sol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each other and do not exchange genet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ve Isolating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zygotic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fertilization &amp; zygote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tzygotic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fertilized egg from growing into a viable and reproducing ad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zygotic Mech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ural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ral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logical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cal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ic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zygotic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ic mort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brid inv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brid infer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beetlespeciation"/>
          <p:cNvPicPr/>
          <p:nvPr/>
        </p:nvPicPr>
        <p:blipFill>
          <a:blip r:embed="rId1"/>
          <a:stretch/>
        </p:blipFill>
        <p:spPr>
          <a:xfrm>
            <a:off x="685800" y="2430360"/>
            <a:ext cx="77724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ppleflies"/>
          <p:cNvPicPr/>
          <p:nvPr/>
        </p:nvPicPr>
        <p:blipFill>
          <a:blip r:embed="rId1"/>
          <a:stretch/>
        </p:blipFill>
        <p:spPr>
          <a:xfrm>
            <a:off x="1042920" y="1981080"/>
            <a:ext cx="705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1:38:44Z</dcterms:created>
  <dc:creator>rubina khan</dc:creator>
  <dc:description/>
  <dc:language>en-US</dc:language>
  <cp:lastModifiedBy>rubina khan</cp:lastModifiedBy>
  <dcterms:modified xsi:type="dcterms:W3CDTF">2016-01-06T15:50:33Z</dcterms:modified>
  <cp:revision>18</cp:revision>
  <dc:subject/>
  <dc:title>PowerPoint Presentation</dc:title>
</cp:coreProperties>
</file>